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20A3-70CA-479D-8FE5-947F2FF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8CD9-F4E7-4EDC-A049-D7159AAA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79C92-C93C-4836-941F-8951CA57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FA008-3DF6-446E-8597-CC179358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687D-7F1F-4F0D-80A0-40441C94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D16E-3AA4-49A4-8199-74818FAF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4D40-E6E9-40E5-895E-220BB94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1AA9-B721-4F36-B912-494662A0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669-1C12-4466-9499-D89A3EE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2E0-8862-4E23-9A64-7043A233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E8C6-1244-4848-B58C-BACD3EF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CE94-1BF5-4A9E-936D-D5ED1F3A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2807-CB02-4FD1-9005-A308A23D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58DE-8A3F-4F54-A71C-FB0D61F9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440B-3BBD-4361-B32E-02A32829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28E3-ABAF-4862-80E5-651BE9EE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D0B-D2AC-4103-8F15-90DEB14A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6C19-8B49-40A9-BA5A-C5F8D5C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5CFD-FD25-4A5D-B804-A10AEB98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7EDA-6541-48BB-A1D6-E860727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5871-1654-4F1E-826B-98E7BB8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4DEA-0965-43D0-9E15-A8A0DE89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E0455-84C5-4510-A9E0-D0BE8C6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4E94-E5A0-46EB-9804-529E9492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430-3270-438E-8EE5-F7FC4364D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5449-B98A-4E6F-8862-E7235F4205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ldables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™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active 3-D Organizers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iddle School/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rlene M. Wheaton, M.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rthwest Tri-County IU 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Basic Fo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bu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r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247760" cy="118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43000" y="5029200"/>
            <a:ext cx="1817640" cy="1446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629400" y="1523880"/>
            <a:ext cx="2259000" cy="1373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705720" y="3352680"/>
            <a:ext cx="2087280" cy="1287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705720" y="5334120"/>
            <a:ext cx="14778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raphic organ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-constructed visual displays used to organ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age students in 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student-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tools for diverse lea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in linking new information to 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1168560"/>
            <a:ext cx="153972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d on research-base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zano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guistic representations have strong effects on student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engaging students in the creation of nonlinguistic repres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nd increases activity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8748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05440" y="380880"/>
            <a:ext cx="1524240" cy="2286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or integral to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nine strateg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similarities and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and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ing effort and providing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an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objectives and providing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ng and testing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es, questions, and advance organ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/lear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s-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less i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order and completeness of student’s though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s and weaknesses of student understanding become clearly evident to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Language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words or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78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e learn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dvance organizer before the learn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ost organ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tudent-made study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80060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orporat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and contr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 and dif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corporate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0271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r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form o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86400" y="4470480"/>
            <a:ext cx="32004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FOLDABLES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are for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every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P to GIEP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levels:  K –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reas:  Academics - Spec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9:30:58Z</dcterms:created>
  <dc:creator>wheatond</dc:creator>
  <dc:description/>
  <dc:language>en-US</dc:language>
  <cp:lastModifiedBy>wheatond</cp:lastModifiedBy>
  <dcterms:modified xsi:type="dcterms:W3CDTF">2007-10-02T19:31:29Z</dcterms:modified>
  <cp:revision>1</cp:revision>
  <dc:subject/>
  <dc:title>Foldables™: Interactive 3-D Organizers for Middle School/High School</dc:title>
</cp:coreProperties>
</file>